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BBB-9E47-4B3F-9B80-83A990EF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297-B3CF-45B6-8A66-193CF7C1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B0D-D42C-4B6B-A324-1442F373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5E5-128E-41B2-B39A-544B80A8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47A-6559-4AE9-AF23-D5D0012E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8E5-CB6E-4E43-AB96-CA81378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3CA-4506-40C7-9E9C-34BFAE1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81-8311-4863-8228-CA8A69C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E48-7B84-4920-9619-6ED6FC9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8FC-5D9B-409E-8046-F267CE0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114-53DF-4C8F-99B3-21D8FF5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8BB-1B78-4C48-907D-996DC84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DDF1-38A7-4536-8111-5EE7DF8B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a révision</a:t>
            </a:r>
            <a:br>
              <a:rPr sz="4400"/>
            </a:b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c-Huma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41752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ré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Colorie le drapeau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capitale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omme la plus haute montagne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s sont les 2 langues officielles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monnaie utilise-t-on en Inde et quelle est sa valeur au Can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omme 4 villes de l’I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population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religion est la plus pratiquée en 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 est le nom officiel de l’I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Quelle est la température à Bombay en jan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674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40:27Z</dcterms:created>
  <dc:creator>nbdoe</dc:creator>
  <dc:description/>
  <dc:language>en-US</dc:language>
  <cp:lastModifiedBy>nbdoe</cp:lastModifiedBy>
  <dcterms:modified xsi:type="dcterms:W3CDTF">2009-01-26T16:51:38Z</dcterms:modified>
  <cp:revision>2</cp:revision>
  <dc:subject/>
  <dc:title>La révision Sc-Humaines</dc:title>
</cp:coreProperties>
</file>